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BB8-A26B-4CDF-804C-CE151DC2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3C3-75CC-45C9-B4FD-DA1EA96D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D95-A59F-4895-A57B-82D7BB34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F85-B32C-4D2C-93F3-768AA381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67C-030C-49E4-8508-07931B9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AF8-B967-4104-A2ED-1C74773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906-03CE-4CCC-82A6-02236889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783-1F1E-4A6C-B332-6CF01967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BD2-E103-4DE3-A95D-67D8F966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BFC-E2D8-4D9A-AA44-941464E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83E-9B1F-45BC-B2CA-C35BA173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24E-EE9E-435B-8B13-D27620C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3B7-470B-4773-9E99-3CD0BE5EB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632560" cy="451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3760" y="228600"/>
            <a:ext cx="75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nother kind of artwork called a mezzoti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6600" y="556272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35260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2971800" cy="2384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89640" y="380880"/>
            <a:ext cx="70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compare and contrast these two ar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73392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close attentio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or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505320"/>
            <a:ext cx="29718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House March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Donald Sultan, American, 19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latex &amp; tar on 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96” x 9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35440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0920" y="533412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2819160" cy="226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3505320"/>
            <a:ext cx="29718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421 Nights; Welco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Donald F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Mezzot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” x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inference, descriptive language,                                                                                  character’s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homes and communities,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texture, light, feelings, art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265560" cy="32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191120" cy="33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54184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3760" y="304920"/>
            <a:ext cx="80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painting very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080" y="4572000"/>
            <a:ext cx="82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you can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 cannot recog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9360" y="4648320"/>
            <a:ext cx="56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in this artwork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64356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0800" y="3962520"/>
            <a:ext cx="812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o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have when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is painting?  Can you explain why you feel that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could be happening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show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 opin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092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7080" y="4038480"/>
            <a:ext cx="81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ainters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really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his painter may hav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you use to tell abou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724280"/>
            <a:ext cx="796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nds and smells that might be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Explain why you think t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ounds and smells  so exactly that others will be able to imagine them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4648320"/>
            <a:ext cx="79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724280"/>
            <a:ext cx="77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(story tell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ory could you tell that w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51:24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